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7A5-F5E0-41C0-A4D7-178112D0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402-3B87-429E-9516-1E9A8AF7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7BBE-E514-4B00-8167-F3D01CC1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5B5-5F02-48C4-9DB8-9BA1320A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3CAE-55C9-4351-9EF2-B2EE313C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5880-673D-4807-84BE-FD51F747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982D-FE44-4ADF-9E81-D4FC53E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9A26-C8A4-41CA-AAEE-7140CFEC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2015-BAA7-48D4-AF86-B5F1FD3C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17D9-52AC-4B49-83A1-A17A8F51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3F31-B9A5-4130-AFDA-3E1C50AB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3DA-3328-416B-997F-5B11CA2C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2152-54D5-443A-811E-D936275B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BD63-F7D7-45A7-94F1-7CB0103E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3930-8420-46E5-A14D-10FC4683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B7BE-A9A3-4E30-8132-85C33E92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513C-6097-4F67-8058-9878D3AF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0E6-FF3A-44E1-B7E6-616C60A1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0FB-11E0-400E-AB89-0D643D8E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A7F-084B-4964-88C3-ED64E37D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9D4-EF3C-4BAC-AC14-5A00C146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B9A-1F74-47C4-995E-B5500D9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071-5B84-4BFD-A2FD-BCC3D339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1A6-D94C-46A2-9C9C-998BC31D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bd7ce"/>
              </a:gs>
              <a:gs pos="100000">
                <a:srgbClr val="b2bdb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46C5-C9D0-42DC-85F3-AA48AB7A76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0A23-5942-4AFE-A5D7-32747F23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44A-5295-4594-94CF-59F9FEAF097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D732-2840-4C28-9BC0-8DF5FFE6A3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7d80"/>
                </a:solidFill>
                <a:uFillTx/>
                <a:latin typeface="Arial"/>
              </a:rPr>
              <a:t>БЮДЖЕТ ОСИННИКОВСКОГО ГОРОДСКОГО ОКРУГА НА 2016 ГОД</a:t>
            </a:r>
            <a:endParaRPr b="0" lang="en-US" sz="3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4005360"/>
            <a:ext cx="770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ормативно правовой ак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шение совета народных депутатов Осинниковского городского округа №184-МНА от 11 декабря 2015 года «О бюджете муниципального образования Осинниковский городской округ на 2016 го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</a:t>
            </a:r>
            <a:br>
              <a:rPr sz="2800"/>
            </a:b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1 405 177,5 тыс.руб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2" name="Диаграмма 7" descr=""/>
          <p:cNvPicPr/>
          <p:nvPr/>
        </p:nvPicPr>
        <p:blipFill>
          <a:blip r:embed="rId1"/>
          <a:stretch/>
        </p:blipFill>
        <p:spPr>
          <a:xfrm>
            <a:off x="212760" y="1359000"/>
            <a:ext cx="87184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 в рамках муниципальных программ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4" name="Диаграмма 7" descr=""/>
          <p:cNvPicPr/>
          <p:nvPr/>
        </p:nvPicPr>
        <p:blipFill>
          <a:blip r:embed="rId1"/>
          <a:stretch/>
        </p:blipFill>
        <p:spPr>
          <a:xfrm>
            <a:off x="0" y="785880"/>
            <a:ext cx="90043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Диаграмма 4" descr=""/>
          <p:cNvPicPr/>
          <p:nvPr/>
        </p:nvPicPr>
        <p:blipFill>
          <a:blip r:embed="rId1"/>
          <a:stretch/>
        </p:blipFill>
        <p:spPr>
          <a:xfrm>
            <a:off x="285840" y="1212840"/>
            <a:ext cx="8572320" cy="55227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285840" y="142920"/>
            <a:ext cx="8643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a6551"/>
                </a:solidFill>
                <a:latin typeface="Arial"/>
              </a:rPr>
              <a:t>Источники внутреннего финансирования дефицита бюдже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d80"/>
                </a:solidFill>
                <a:latin typeface="Arial"/>
              </a:rPr>
              <a:t>Основные характеристики бюджета муниципального образования – Осинниковский городской округ</a:t>
            </a:r>
            <a:endParaRPr b="0" lang="en-US" sz="2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доходов бюджета городского округа в сумме    1 262 588,3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расходов бюджета городского округа в сумме  1 405 177,5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фицит бюджета городского округа в сумме  142 589,2 тыс. руб., с учетом разницы между полученным и погашенным бюджетным кредитом, предоставленным местному бюджету из субъекта Российской Федер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5000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Основные</a:t>
            </a:r>
            <a:r>
              <a:rPr b="1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 понятия бюдж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БЮДЖЕТ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О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РАС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Е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ПРО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4a6551"/>
                </a:solidFill>
                <a:latin typeface="Arial"/>
              </a:rPr>
              <a:t>ДОХОДЫ</a:t>
            </a:r>
            <a:r>
              <a:rPr b="1" i="1" lang="en-US" sz="3400" spc="-1" strike="noStrike">
                <a:solidFill>
                  <a:srgbClr val="4a6551"/>
                </a:solidFill>
                <a:latin typeface="Arial"/>
              </a:rPr>
              <a:t> БЮДЖЕТА </a:t>
            </a:r>
            <a:endParaRPr b="0" lang="en-US" sz="3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18" name="Диаграмма 9" descr=""/>
          <p:cNvPicPr/>
          <p:nvPr/>
        </p:nvPicPr>
        <p:blipFill>
          <a:blip r:embed="rId1"/>
          <a:stretch/>
        </p:blipFill>
        <p:spPr>
          <a:xfrm>
            <a:off x="139680" y="1139760"/>
            <a:ext cx="87184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Диаграмма 4" descr=""/>
          <p:cNvPicPr/>
          <p:nvPr/>
        </p:nvPicPr>
        <p:blipFill>
          <a:blip r:embed="rId1"/>
          <a:stretch/>
        </p:blipFill>
        <p:spPr>
          <a:xfrm>
            <a:off x="0" y="1212840"/>
            <a:ext cx="8358120" cy="5359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785880" y="35712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орматив отчислений от нал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а доходы физических л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Структура доходов на 2016 год</a:t>
            </a:r>
            <a:endParaRPr b="0" lang="en-US" sz="32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2" name="Диаграмма 5" descr=""/>
          <p:cNvPicPr/>
          <p:nvPr/>
        </p:nvPicPr>
        <p:blipFill>
          <a:blip r:embed="rId1"/>
          <a:stretch/>
        </p:blipFill>
        <p:spPr>
          <a:xfrm>
            <a:off x="360360" y="1450800"/>
            <a:ext cx="82836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налоговых и неналоговых доходов</a:t>
            </a:r>
            <a:br>
              <a:rPr sz="2800"/>
            </a:b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на 2016 год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4" name="Диаграмма 7" descr=""/>
          <p:cNvPicPr/>
          <p:nvPr/>
        </p:nvPicPr>
        <p:blipFill>
          <a:blip r:embed="rId1"/>
          <a:stretch/>
        </p:blipFill>
        <p:spPr>
          <a:xfrm>
            <a:off x="0" y="1073160"/>
            <a:ext cx="91440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Диаграмма 11"/>
          <p:cNvGraphicFramePr/>
          <p:nvPr/>
        </p:nvGraphicFramePr>
        <p:xfrm>
          <a:off x="571680" y="928800"/>
          <a:ext cx="792936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Диаграмма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28800"/>
                    <a:ext cx="7929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Прямоугольник 2"/>
          <p:cNvSpPr/>
          <p:nvPr/>
        </p:nvSpPr>
        <p:spPr>
          <a:xfrm>
            <a:off x="428760" y="1429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ЕЗВОЗМЕЗДНЫЕ ПОСТУПЛЕНИЯ ОТ ДРУГ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ЮДЖЕТОВ БЮДЖЕТНОЙ СИСТЕМЫ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РАСХОДЫ БЮДЖЕТА</a:t>
            </a:r>
            <a:br>
              <a:rPr sz="2800"/>
            </a:br>
            <a:r>
              <a:rPr b="0" i="1" lang="en-US" sz="2400" spc="-1" strike="noStrike">
                <a:solidFill>
                  <a:srgbClr val="5b7662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071800" y="1214280"/>
            <a:ext cx="4924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Диаграмма 10" descr=""/>
          <p:cNvPicPr/>
          <p:nvPr/>
        </p:nvPicPr>
        <p:blipFill>
          <a:blip r:embed="rId1"/>
          <a:stretch/>
        </p:blipFill>
        <p:spPr>
          <a:xfrm>
            <a:off x="426960" y="1712880"/>
            <a:ext cx="81676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ревизор</cp:lastModifiedBy>
  <dcterms:modified xsi:type="dcterms:W3CDTF">2017-04-04T04:06:48Z</dcterms:modified>
  <cp:revision>116</cp:revision>
  <dc:subject/>
  <dc:title>Слайд 1</dc:title>
</cp:coreProperties>
</file>