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7F7-430E-4788-89AB-D700324B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665-9188-4789-A8D3-A75866E6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65B-EAF1-4E5D-8D07-751CB9E2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DD4-CDE7-42EF-9C62-9D10DEF4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A1B7-51A6-4DE9-8872-DEC7DD32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915B-D718-4E6F-B12E-DA2737AA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3414-210D-4DD7-BBDD-F73BEFBC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B8C4-3423-4E18-8328-E829C00B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DD26-5707-4062-83CC-56A27B46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4E86-AA30-40B1-9AA5-C97AC750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37E9-41A7-48C5-9AF3-C61064F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8E8-6730-4A2B-BC35-4A50EBB1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AE30-C6DF-4096-94A4-1B324807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0F26-4F96-456F-AC3C-75CAD464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5996-9C6D-4C1A-8159-8475F92B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E935-C498-4FCD-8159-3203ED53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3BF5-6F91-45DB-891B-FEB78FE9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A35-1A62-444B-A7E7-06F964FB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1CC-1E6C-4C9F-A4AA-93BA5724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469-90BB-4958-9E92-EDBFA6A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F19-9DEB-4D39-AF46-C4B93C09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8F2-93A0-4915-BA92-5452961D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1E7-882C-458E-8BA8-FF94E942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CBF-DF49-4F68-9DC2-B0471921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bd7ce"/>
              </a:gs>
              <a:gs pos="100000">
                <a:srgbClr val="b2bdb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1FB3-E80F-414F-B3C7-4CB0A87C8D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7E9B-1405-4F5B-87C7-221017232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a3bba9"/>
                </a:gs>
                <a:gs pos="100000">
                  <a:srgbClr val="cbd7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cb6ae"/>
                  </a:gs>
                  <a:gs pos="100000">
                    <a:srgbClr val="cbd7ce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b2bdb5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c4bb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cb6a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9c4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6b0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2b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d9d1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cbd7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cdd8d0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bfcac2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cbd7ce"/>
                  </a:gs>
                  <a:gs pos="100000">
                    <a:srgbClr val="bfcac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c5d0c8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3bba9"/>
                  </a:gs>
                  <a:gs pos="100000">
                    <a:srgbClr val="cbd7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d7ce"/>
                  </a:gs>
                  <a:gs pos="100000">
                    <a:srgbClr val="a3bb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3bba9"/>
                    </a:gs>
                    <a:gs pos="100000">
                      <a:srgbClr val="cbd7c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d7ce"/>
                    </a:gs>
                    <a:gs pos="100000">
                      <a:srgbClr val="a3bb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d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7d8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7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0E17-8D93-41A9-BF23-7076AF949A5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E469-C5AA-4E11-8CAF-917126D288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7d80"/>
                </a:solidFill>
                <a:uFillTx/>
                <a:latin typeface="Arial"/>
              </a:rPr>
              <a:t>БЮДЖЕТ ОСИННИКОВСКОГО ГОРОДСКОГО ОКРУГА НА 2016 ГОД</a:t>
            </a:r>
            <a:endParaRPr b="0" lang="en-US" sz="3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4005360"/>
            <a:ext cx="770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ормативно правовой акт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шение совета народных депутатов Осинниковского городского округа №184-МНА от 11 декабря 2015 года «О бюджете муниципального образования Осинниковский городской округ на 2016 го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</a:t>
            </a:r>
            <a:br>
              <a:rPr sz="2800"/>
            </a:br>
            <a:r>
              <a:rPr b="0" i="1" lang="ru-RU" sz="2800" spc="-1" strike="noStrike">
                <a:solidFill>
                  <a:srgbClr val="4a6551"/>
                </a:solidFill>
                <a:latin typeface="Arial"/>
              </a:rPr>
              <a:t>1 405 177,5 тыс.руб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2" name="Диаграмма 7" descr=""/>
          <p:cNvPicPr/>
          <p:nvPr/>
        </p:nvPicPr>
        <p:blipFill>
          <a:blip r:embed="rId1"/>
          <a:stretch/>
        </p:blipFill>
        <p:spPr>
          <a:xfrm>
            <a:off x="212760" y="1359000"/>
            <a:ext cx="87184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расходов бюджета на 2016 год в рамках муниципальных программ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34" name="Диаграмма 7" descr=""/>
          <p:cNvPicPr/>
          <p:nvPr/>
        </p:nvPicPr>
        <p:blipFill>
          <a:blip r:embed="rId1"/>
          <a:stretch/>
        </p:blipFill>
        <p:spPr>
          <a:xfrm>
            <a:off x="0" y="785880"/>
            <a:ext cx="90043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Диаграмма 4" descr=""/>
          <p:cNvPicPr/>
          <p:nvPr/>
        </p:nvPicPr>
        <p:blipFill>
          <a:blip r:embed="rId1"/>
          <a:stretch/>
        </p:blipFill>
        <p:spPr>
          <a:xfrm>
            <a:off x="285840" y="1212840"/>
            <a:ext cx="8572320" cy="55227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285840" y="142920"/>
            <a:ext cx="8643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a6551"/>
                </a:solidFill>
                <a:latin typeface="Arial"/>
              </a:rPr>
              <a:t>Источники внутреннего финансирования дефицита бюдже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7d80"/>
                </a:solidFill>
                <a:latin typeface="Arial"/>
              </a:rPr>
              <a:t>Основные характеристики бюджета муниципального образования – Осинниковский городской округ</a:t>
            </a:r>
            <a:endParaRPr b="0" lang="en-US" sz="25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доходов бюджета городского округа в сумме    1 262 588,3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й объем расходов бюджета городского округа в сумме  1 405 177,5 тыс. руб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фицит бюджета городского округа в сумме  142 589,2 тыс. руб., с учетом разницы между полученным и погашенным бюджетным кредитом, предоставленным местному бюджету из субъекта Российской Федер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50004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Основные</a:t>
            </a:r>
            <a:r>
              <a:rPr b="1" lang="en-US" sz="4400" spc="-1" strike="noStrike" u="sng">
                <a:solidFill>
                  <a:srgbClr val="4a6551"/>
                </a:solidFill>
                <a:uFillTx/>
                <a:latin typeface="Arial"/>
              </a:rPr>
              <a:t> понятия бюдж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БЮДЖЕТ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О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РАСХОДЫ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ДЕ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735"/>
                </a:solidFill>
                <a:latin typeface="Arial"/>
              </a:rPr>
              <a:t>ПРОФИЦИТ БЮДЖЕТА</a:t>
            </a:r>
            <a:r>
              <a:rPr b="0" lang="en-US" sz="2000" spc="-1" strike="noStrike">
                <a:solidFill>
                  <a:srgbClr val="303735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4a6551"/>
                </a:solidFill>
                <a:latin typeface="Arial"/>
              </a:rPr>
              <a:t>ДОХОДЫ</a:t>
            </a:r>
            <a:r>
              <a:rPr b="1" i="1" lang="en-US" sz="3400" spc="-1" strike="noStrike">
                <a:solidFill>
                  <a:srgbClr val="4a6551"/>
                </a:solidFill>
                <a:latin typeface="Arial"/>
              </a:rPr>
              <a:t> БЮДЖЕТА </a:t>
            </a:r>
            <a:endParaRPr b="0" lang="en-US" sz="34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18" name="Диаграмма 9" descr=""/>
          <p:cNvPicPr/>
          <p:nvPr/>
        </p:nvPicPr>
        <p:blipFill>
          <a:blip r:embed="rId1"/>
          <a:stretch/>
        </p:blipFill>
        <p:spPr>
          <a:xfrm>
            <a:off x="139680" y="1139760"/>
            <a:ext cx="871848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Диаграмма 4" descr=""/>
          <p:cNvPicPr/>
          <p:nvPr/>
        </p:nvPicPr>
        <p:blipFill>
          <a:blip r:embed="rId1"/>
          <a:stretch/>
        </p:blipFill>
        <p:spPr>
          <a:xfrm>
            <a:off x="0" y="1212840"/>
            <a:ext cx="8358120" cy="53593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785880" y="35712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орматив отчислений от нал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на доходы физических л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a6551"/>
                </a:solidFill>
                <a:latin typeface="Arial"/>
              </a:rPr>
              <a:t>Структура доходов на 2016 год</a:t>
            </a:r>
            <a:endParaRPr b="0" lang="en-US" sz="32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2" name="Диаграмма 5" descr=""/>
          <p:cNvPicPr/>
          <p:nvPr/>
        </p:nvPicPr>
        <p:blipFill>
          <a:blip r:embed="rId1"/>
          <a:stretch/>
        </p:blipFill>
        <p:spPr>
          <a:xfrm>
            <a:off x="360360" y="1450800"/>
            <a:ext cx="828360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Структура налоговых и неналоговых доходов</a:t>
            </a:r>
            <a:br>
              <a:rPr sz="2800"/>
            </a:b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на 2016 год</a:t>
            </a:r>
            <a:endParaRPr b="0" lang="en-US" sz="2800" spc="-1" strike="noStrike">
              <a:solidFill>
                <a:srgbClr val="007d80"/>
              </a:solidFill>
              <a:latin typeface="Arial"/>
            </a:endParaRPr>
          </a:p>
        </p:txBody>
      </p:sp>
      <p:pic>
        <p:nvPicPr>
          <p:cNvPr id="224" name="Диаграмма 7" descr=""/>
          <p:cNvPicPr/>
          <p:nvPr/>
        </p:nvPicPr>
        <p:blipFill>
          <a:blip r:embed="rId1"/>
          <a:stretch/>
        </p:blipFill>
        <p:spPr>
          <a:xfrm>
            <a:off x="0" y="1073160"/>
            <a:ext cx="91440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Диаграмма 11"/>
          <p:cNvGraphicFramePr/>
          <p:nvPr/>
        </p:nvGraphicFramePr>
        <p:xfrm>
          <a:off x="571680" y="928800"/>
          <a:ext cx="792936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Диаграмма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28800"/>
                    <a:ext cx="7929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Прямоугольник 2"/>
          <p:cNvSpPr/>
          <p:nvPr/>
        </p:nvSpPr>
        <p:spPr>
          <a:xfrm>
            <a:off x="428760" y="1429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ЕЗВОЗМЕЗДНЫЕ ПОСТУПЛЕНИЯ ОТ ДРУГ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БЮДЖЕТОВ БЮДЖЕТНОЙ СИСТЕМЫ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a6551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bb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6551"/>
                </a:solidFill>
                <a:latin typeface="Arial"/>
              </a:rPr>
              <a:t>РАСХОДЫ БЮДЖЕТА</a:t>
            </a:r>
            <a:br>
              <a:rPr sz="2800"/>
            </a:br>
            <a:r>
              <a:rPr b="0" i="1" lang="en-US" sz="2400" spc="-1" strike="noStrike">
                <a:solidFill>
                  <a:srgbClr val="5b7662"/>
                </a:solidFill>
                <a:latin typeface="Arial"/>
              </a:rPr>
              <a:t>ТЫС.РУБ</a:t>
            </a:r>
            <a:endParaRPr b="0" lang="en-US" sz="2400" spc="-1" strike="noStrike">
              <a:solidFill>
                <a:srgbClr val="007d8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071800" y="1214280"/>
            <a:ext cx="4924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Диаграмма 10" descr=""/>
          <p:cNvPicPr/>
          <p:nvPr/>
        </p:nvPicPr>
        <p:blipFill>
          <a:blip r:embed="rId1"/>
          <a:stretch/>
        </p:blipFill>
        <p:spPr>
          <a:xfrm>
            <a:off x="426960" y="1712880"/>
            <a:ext cx="81676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ревизор</cp:lastModifiedBy>
  <dcterms:modified xsi:type="dcterms:W3CDTF">2017-04-04T04:06:48Z</dcterms:modified>
  <cp:revision>116</cp:revision>
  <dc:subject/>
  <dc:title>Слайд 1</dc:title>
</cp:coreProperties>
</file>