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8B5A-FC9C-48D8-9F09-704083C150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7E36-F614-44B0-884E-136F90AF6C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E03-42FF-400E-8147-D15B5226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D55-2D7E-40A7-AF62-041E2A84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04C-86AE-4E9B-8AE3-5621F698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BC7-FC8C-4072-B45E-49007B76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E36-6F53-422E-95E7-A5717810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AD1-F696-45F4-85C9-FC7C68AF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ECE-C2C3-46AB-AEB3-ECE9E275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840-6F8F-4CC8-BE31-79C3245A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2D8-D73F-49B3-B595-BCEF580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30C-A2EC-4541-8228-AC93E0F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208-B8F5-42D9-84FC-F47BB01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64F-1A22-445D-9014-AA79AC27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3303-AE18-4F0E-A310-2EA3C1496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Calibri"/>
              </a:rPr>
              <a:t>Показатели доходов и расходов в 2015 год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428760" y="1000080"/>
            <a:ext cx="10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438120" y="1079640"/>
          <a:ext cx="8778960" cy="54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079640"/>
                    <a:ext cx="877896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5:07:02Z</dcterms:created>
  <dc:creator>2</dc:creator>
  <dc:description/>
  <dc:language>en-US</dc:language>
  <cp:lastModifiedBy>Администратор</cp:lastModifiedBy>
  <dcterms:modified xsi:type="dcterms:W3CDTF">2016-01-29T08:58:20Z</dcterms:modified>
  <cp:revision>22</cp:revision>
  <dc:subject/>
  <dc:title>Слайд 1</dc:title>
</cp:coreProperties>
</file>