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3A16-CAF1-4946-AC88-872658B5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D98-0852-4EF9-8CAC-0F6BE15D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D1C-0D6E-4EAE-A023-620CC8A8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DA25-6504-4C6A-8A55-5EB4B7D3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590B-00F3-45D5-9C90-AB08F68B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EA36-158A-4CDE-93A2-52D54993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E5B9-295C-427A-8044-7FDFDA9F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BE2A-2C94-4250-A3CE-84710A00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EDEB-032A-4B5A-B421-C569D4C4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4934-8E42-4C05-BFA3-7BCC83FD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C905-1EF8-430C-A1B2-CE6B55F4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26F-7DB5-4362-AF67-8B7654DA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22F0-A505-40BD-807A-722E867B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3F01-A2DE-448C-92E9-78DC6EEF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9097-167E-4407-BEF3-CD889485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7B8D-48AE-465D-9F6D-DB634D0E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4074-C6D5-4B7B-96E0-F3AAC0E4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1EF-B477-4984-8642-154B1356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BB0B-702D-48CC-B4F8-EBD5BCF0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28E2-194F-46A0-9BFB-32EB3666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7D1-8CDE-49F4-934E-72BD9CB1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1DB1-459F-4126-A1CD-0D09938E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881-A80C-4EDB-8CF6-F73EC706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E7ED-883A-47BA-AE54-FC231C9E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7cca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5707-EC21-4952-8F0D-C7ECB7EEAB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9695-8848-4F4F-B05D-EBE6881EF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7cca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2886-DD6C-4DF5-8D72-C9EB23D02D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CD01-49A3-4CA1-AF24-BE5C59541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39257"/>
                </a:solidFill>
                <a:uFillTx/>
                <a:latin typeface="Arial"/>
              </a:rPr>
              <a:t>Основные понятия бюдж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39257"/>
                </a:solidFill>
                <a:uFillTx/>
                <a:latin typeface="Arial"/>
              </a:rPr>
              <a:t>Основные понятия бюджет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БЮДЖЕТ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ОХОДЫ БЮДЖЕТ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-  поступающие в бюджет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СХОДЫ БЮДЖЕТ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- выплачиваемые из бюджета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ЕФИЦИТ БЮДЖЕТ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- превышение расходов бюджета над его дох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ФИЦИТ БЮДЖЕТ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- превышение доходов бюджета над его расх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ДОХОДЫ БЮДЖЕТА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87280" y="1197000"/>
          <a:ext cx="770760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97000"/>
                    <a:ext cx="77076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2195640" y="1628640"/>
            <a:ext cx="93636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772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80000" y="1628640"/>
            <a:ext cx="93636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8867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64000" y="1628640"/>
            <a:ext cx="93672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22077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48360" y="1628640"/>
            <a:ext cx="93672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29036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579600" y="0"/>
          <a:ext cx="7983360" cy="65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0"/>
                    <a:ext cx="7983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Структура доходов на 2015 год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79280" y="1125360"/>
          <a:ext cx="8785440" cy="547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25360"/>
                    <a:ext cx="878544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39257"/>
                </a:solidFill>
                <a:latin typeface="Arial"/>
              </a:rPr>
              <a:t>Структура налоговых и неналоговых доходов </a:t>
            </a:r>
            <a:br>
              <a:rPr sz="2500"/>
            </a:br>
            <a:r>
              <a:rPr b="0" lang="en-US" sz="2500" spc="-1" strike="noStrike">
                <a:solidFill>
                  <a:srgbClr val="b39257"/>
                </a:solidFill>
                <a:latin typeface="Arial"/>
              </a:rPr>
              <a:t>на 2015 год</a:t>
            </a:r>
            <a:endParaRPr b="0" lang="en-US" sz="25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996920"/>
          <a:ext cx="4038480" cy="373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96920"/>
                    <a:ext cx="4038480" cy="37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50920" y="1268280"/>
          <a:ext cx="8785080" cy="5054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268280"/>
                    <a:ext cx="8785080" cy="50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332000" y="1015920"/>
          <a:ext cx="734544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15920"/>
                    <a:ext cx="73454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1979640" y="1833480"/>
            <a:ext cx="93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63319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16360" y="1844640"/>
            <a:ext cx="936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62556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51280" y="1844640"/>
            <a:ext cx="93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4716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2360" y="1844640"/>
            <a:ext cx="93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2753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РАСХОДЫ БЮДЖЕТ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50920" y="1197000"/>
          <a:ext cx="8642160" cy="51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64216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971640" y="1700280"/>
            <a:ext cx="1152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74465,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16360" y="2997360"/>
            <a:ext cx="1152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5395,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3640" y="3213000"/>
            <a:ext cx="1152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30750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64360" y="3213000"/>
            <a:ext cx="1152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37905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Структура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расходов бюджета    на 2015 год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55640" y="836640"/>
          <a:ext cx="7920000" cy="58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36640"/>
                    <a:ext cx="792000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cc"/>
                </a:solidFill>
                <a:latin typeface="Arial"/>
              </a:rPr>
              <a:t>Структура расходов бюджета на 2015 год в рамках муниципальных программ</a:t>
            </a:r>
            <a:endParaRPr b="0" lang="en-US" sz="30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866880" y="1417680"/>
          <a:ext cx="7478640" cy="544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6880" y="1417680"/>
                    <a:ext cx="7478640" cy="54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4:20:44Z</dcterms:created>
  <dc:creator>Администратор</dc:creator>
  <dc:description/>
  <dc:language>en-US</dc:language>
  <cp:lastModifiedBy>Администратор</cp:lastModifiedBy>
  <dcterms:modified xsi:type="dcterms:W3CDTF">2014-12-16T04:52:16Z</dcterms:modified>
  <cp:revision>36</cp:revision>
  <dc:subject/>
  <dc:title>Слайд 1</dc:title>
</cp:coreProperties>
</file>