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D9B-7110-4523-A9D5-22B17F2A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75D-B7C7-4F97-BEC6-FF6F519F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18B-7296-4B26-A7A2-C25ED23F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169-7E6C-4888-869B-554B9CC0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A5E0-D0FD-4187-9A4B-293B91B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07E8-40E9-483B-92A3-0582B6B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B0D-A63B-47DF-8B4B-21241D4C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AC1D-6B0C-4AE5-AE5E-826D5A1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461-C3E9-40E0-AD70-57D807F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A9A5-456B-4E84-B992-9A9A1744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E52-EDDC-47FB-9807-2315447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64A-A42D-478C-AE9D-0CA13D50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985B-A921-4252-90D2-F32DB483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5380-8B4D-4B3C-AAE6-FB997F5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CACB-FF51-461A-8A01-E44BA894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206-BF98-4D73-B481-78ABBC9E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B4EB-4529-4CE5-8D24-09F46A2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B3D-F302-44BF-90C9-8066F119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965-9245-4302-85EB-4CC82AF3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B27-22F9-4399-BB36-993BEA7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AF8-BD16-42CE-A613-FF13D13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CF7-CDF4-4735-A3A2-9107542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BC7-8413-4666-AB73-32E90A1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355-B587-403D-ACF9-F54DD526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48E-C2D0-4E7C-9F14-F37F43324A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98D-C193-49A9-9615-31A5381F0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9823-0FEB-4C6A-A819-C21BCEBC4E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0EC-92B2-4834-A63C-29E79E2E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ДОХОДЫ БЮДЖЕТА 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87280" y="1197000"/>
          <a:ext cx="77076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77076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1628640"/>
            <a:ext cx="936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772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1628640"/>
            <a:ext cx="93636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8867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6400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207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1628640"/>
            <a:ext cx="936720" cy="276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29036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79600" y="0"/>
          <a:ext cx="7983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0"/>
                    <a:ext cx="7983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Структура доходов на 2015 год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9280" y="1125360"/>
          <a:ext cx="878544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Структура налоговых и неналоговых доходов </a:t>
            </a:r>
            <a:br>
              <a:rPr sz="2500"/>
            </a:br>
            <a:r>
              <a:rPr b="0" lang="en-US" sz="2500" spc="-1" strike="noStrike">
                <a:solidFill>
                  <a:srgbClr val="b39257"/>
                </a:solidFill>
                <a:latin typeface="Arial"/>
              </a:rPr>
              <a:t>на 2015 год</a:t>
            </a:r>
            <a:endParaRPr b="0" lang="en-US" sz="25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996920"/>
          <a:ext cx="4038480" cy="373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96920"/>
                    <a:ext cx="4038480" cy="37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50920" y="1268280"/>
          <a:ext cx="8785080" cy="505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508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332000" y="1015920"/>
          <a:ext cx="73454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15920"/>
                    <a:ext cx="7345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979640" y="183348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6331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16360" y="184464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6255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4716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18446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2753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6421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421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70028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74465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2997360"/>
            <a:ext cx="1152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5395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075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3213000"/>
            <a:ext cx="11527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790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расходов бюджета    на 2015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5640" y="836640"/>
          <a:ext cx="792000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92000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cc"/>
                </a:solidFill>
                <a:latin typeface="Arial"/>
              </a:rPr>
              <a:t>Структура расходов бюджета на 2015 год в рамках муниципальных программ</a:t>
            </a:r>
            <a:endParaRPr b="0" lang="en-US" sz="3000" spc="-1" strike="noStrike">
              <a:solidFill>
                <a:srgbClr val="b39257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866880" y="1417680"/>
          <a:ext cx="747864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417680"/>
                    <a:ext cx="74786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Администратор</cp:lastModifiedBy>
  <dcterms:modified xsi:type="dcterms:W3CDTF">2014-12-16T04:52:16Z</dcterms:modified>
  <cp:revision>36</cp:revision>
  <dc:subject/>
  <dc:title>Слайд 1</dc:title>
</cp:coreProperties>
</file>