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EB1-D9C5-4B01-AE51-8BF1E486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AA5-B6C6-4639-A248-168047DD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D49-24E6-4197-A9BE-D7DB2E18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BD6-2116-4E27-8547-E6A83105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C97B-EA42-4B15-B9F1-803240F6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F13A-E534-45E1-AEF3-5310AC6D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E64A-0B88-4C20-9A35-469364A1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BDFA-A25E-47AD-9372-0E052C94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8ABD-0E9D-4F5D-A4A9-4445A275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2585-999A-4067-AD6D-7EBDF875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ED95-E265-43F1-85BF-47DD7FD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7C7-17FE-4641-BA44-113FA4A9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FAC3-C54A-42ED-8592-5D9AF3A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1232-FA1B-4F98-BB99-74C52F83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EA67-3967-4A71-8C69-45EB6019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7ADC-CC80-43FA-AA9A-E65632D6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B1A0-3375-47B5-8D89-9AD2B143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A23-BCA2-47C3-929C-3877FD0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3BC-F192-499C-B23E-82444101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5D0-496C-4632-918B-56723263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CC4-0770-474F-ACC3-972DCE57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6CD-9D61-4E5A-8D0F-D04E493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62D-2A51-46C5-A8C4-9F76111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D9C-E856-448F-86B0-0D7BD617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2E96-E15C-4B21-A325-E1CDB7EEBFA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F4BA-8775-4D66-843F-9FA1038EF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16DB-88F1-48C3-9ADB-A3353E7DB16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4EF3-EFB0-46B6-AA9B-1E8F88C7A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ДОХОДЫ БЮДЖЕТА В 2014 ГОДУ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СТРУКТУРА НАЛОГОВЫХ И НЕНАЛОГОВЫХ ДОХОДОВ В 2014 ГОДУ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3628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РМАТИВ ОТЧИСЛЕНИЙ ОТ НАЛОГА НА ДОХОДЫ ФИЗИЧЕСКИХ ЛИЦ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Безвозмездные поступления от других бюджетов бюджетной системы РФ          тыс.рублей</a:t>
            </a:r>
            <a:endParaRPr b="0" lang="en-US" sz="16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Диаграмма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7408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Диаграмма 8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7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расходов бюджета на 2014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396720" y="1054080"/>
            <a:ext cx="857124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Admins</cp:lastModifiedBy>
  <dcterms:modified xsi:type="dcterms:W3CDTF">2014-10-22T08:17:26Z</dcterms:modified>
  <cp:revision>46</cp:revision>
  <dc:subject/>
  <dc:title>Слайд 1</dc:title>
</cp:coreProperties>
</file>