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821B-102F-405C-BE0B-4EF8902C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8E60-682B-4782-B338-A3297D14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3683-3473-4F85-B8DF-5953B73C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DA6-766D-4E4F-88A3-10A7AF0F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BEAD-52E9-43F2-B98F-91ED3577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5431-304F-448B-B912-86FB1547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EFA0-0E97-4449-8363-3FEB3BE2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BEAD-6E8D-4B56-A1AD-D3DAB932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0D6B-43AD-4EEF-9574-F6BE3B25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A594-14D3-412B-9FE5-327B76E4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7810-75B5-4556-B90E-140E8031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C082-F2DE-4FB6-B570-08B592A5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A2B2-3248-4FC5-A6E2-F703B6F8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B28B-7FCC-4960-995D-CC6BD279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06F6-7B7E-4BDE-B220-A777CFB9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F22E-E12F-4191-8AEF-F79F4DAA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F418-DDD8-40DE-834E-4277C2CC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998D-DDC6-4FB2-B66C-A646DA1C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74E-946A-4512-A6F8-3A74F069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E4B9-5396-45B0-9730-38625222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416A-37F9-4F0B-A938-8E5508CB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1B5-B3EF-4653-BFAB-71BF9838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4BD-A0A1-4FE9-9190-CC18BCCD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4D2-C410-447D-AC57-8DC58100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7cca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7C49-4CD2-482B-BB90-F00C284019D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5556-57AD-46DF-B387-EB86A73C09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7cca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EED6-0CE5-4615-B7E7-277D390246E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75CF-610A-4A13-8B9D-087B169A8F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b39257"/>
                </a:solidFill>
                <a:uFillTx/>
                <a:latin typeface="Arial"/>
              </a:rPr>
              <a:t>Основные понятия бюдж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b39257"/>
                </a:solidFill>
                <a:uFillTx/>
                <a:latin typeface="Arial"/>
              </a:rPr>
              <a:t>Основные понятия бюджет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ЮДЖЕТ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ОХОДЫ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-  поступающие в бюджет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ХОДЫ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выплачиваемые из бюджета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ФИЦИТ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превышение расходов бюджета над его доход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ФИЦИТ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превышение доходов бюджета над его расход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ДОХОДЫ БЮДЖЕТА В 2014 ГОДУ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5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СТРУКТУРА НАЛОГОВЫХ И НЕНАЛОГОВЫХ ДОХОДОВ В 2014 ГОДУ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7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3628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ОРМАТИВ ОТЧИСЛЕНИЙ ОТ НАЛОГА НА ДОХОДЫ ФИЗИЧЕСКИХ ЛИЦ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9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Безвозмездные поступления от других бюджетов бюджетной системы РФ          тыс.рублей</a:t>
            </a:r>
            <a:endParaRPr b="0" lang="en-US" sz="16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1" name="Диаграмма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7408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РАСХОДЫ БЮДЖЕТА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3" name="Диаграмма 8" descr=""/>
          <p:cNvPicPr/>
          <p:nvPr/>
        </p:nvPicPr>
        <p:blipFill>
          <a:blip r:embed="rId1"/>
          <a:stretch/>
        </p:blipFill>
        <p:spPr>
          <a:xfrm>
            <a:off x="469800" y="1414440"/>
            <a:ext cx="827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Структура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расходов бюджета на 2014 год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5" name="Объект 4" descr=""/>
          <p:cNvPicPr/>
          <p:nvPr/>
        </p:nvPicPr>
        <p:blipFill>
          <a:blip r:embed="rId1"/>
          <a:stretch/>
        </p:blipFill>
        <p:spPr>
          <a:xfrm>
            <a:off x="396720" y="1054080"/>
            <a:ext cx="857124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4:20:44Z</dcterms:created>
  <dc:creator>Администратор</dc:creator>
  <dc:description/>
  <dc:language>en-US</dc:language>
  <cp:lastModifiedBy>Admins</cp:lastModifiedBy>
  <dcterms:modified xsi:type="dcterms:W3CDTF">2014-10-22T08:17:26Z</dcterms:modified>
  <cp:revision>46</cp:revision>
  <dc:subject/>
  <dc:title>Слайд 1</dc:title>
</cp:coreProperties>
</file>